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1B1-B7BD-4ADF-BB2F-0BE7BF3E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EE2-8E2B-4D31-807B-8AC7AB0E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F83-60B8-4A12-BCDA-F815DD3B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D89-F5B6-4481-B5AE-858DDC8F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4654-26A7-4AEF-AD9B-C366DFB1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DBC8-B7D0-4B46-A4DC-FE5D830F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B030-E717-4D4E-B5FF-F058A5F5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F429-DB1D-47B7-93BC-CB482BBA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07D8-E9A2-4EC0-ABB1-148E6FAC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C35E-06F2-4679-BADF-16A60A86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3DC5-19C8-4A17-9723-59A2F474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394-8610-433A-9ED5-2F6B9F6B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18DA-89BE-4D26-98F4-165486B8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1BD0-65B4-4063-9889-425F3E89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611F-B3EC-490D-946B-202B42F3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9265-C13F-410E-8F6F-4E9F429E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91A4-F5AB-45B5-813A-84B5188C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27B-FCD9-4784-8330-36A01C72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B19-6A15-48C6-8413-CEA49F0E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A4D-223C-4492-A384-E4A7AA5F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EF0-2353-4DED-B4D6-57093E2A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16E-1F8B-431E-AE05-85178CCF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AF9-D208-4671-B5EB-099C3850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8E3-0101-4168-B870-17D0781F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0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6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00"/>
                  </a:gs>
                  <a:gs pos="100000">
                    <a:srgbClr val="008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00"/>
                  </a:gs>
                  <a:gs pos="100000">
                    <a:srgbClr val="00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00"/>
                  </a:gs>
                  <a:gs pos="100000">
                    <a:srgbClr val="00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00"/>
                  </a:gs>
                  <a:gs pos="100000">
                    <a:srgbClr val="00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6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07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07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0e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783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07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07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07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00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00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00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00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33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33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00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33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9900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33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9900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3D67-9D14-46CA-803C-9BB86166725B}" type="slidenum">
              <a:rPr b="0" lang="en-US" sz="1400" spc="-1" strike="noStrike">
                <a:solidFill>
                  <a:srgbClr val="ff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6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00"/>
                  </a:gs>
                  <a:gs pos="100000">
                    <a:srgbClr val="008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00"/>
                  </a:gs>
                  <a:gs pos="100000">
                    <a:srgbClr val="00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00"/>
                  </a:gs>
                  <a:gs pos="100000">
                    <a:srgbClr val="00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00"/>
                  </a:gs>
                  <a:gs pos="100000">
                    <a:srgbClr val="00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6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07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07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0e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783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07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07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07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00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00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00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00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33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33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00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33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9900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33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9900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7135-F711-4AA7-B46B-30C2E098A777}" type="slidenum">
              <a:rPr b="0" lang="en-US" sz="1400" spc="-1" strike="noStrike">
                <a:solidFill>
                  <a:srgbClr val="ff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بسم الـله الرحمن الرحيم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ما أبرز طرق تعليم القراءة والكتابة ؟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ما الطريقة التي سار عليها الكتاب المدرسي ؟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ما المشاكل التي تواجهنا عند تعليم طلاب الصف الأول الابتدائي ؟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ما السبيل إلى علاج كل مشكلة من هذه المشاكل ؟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ff"/>
                </a:solidFill>
                <a:latin typeface="Arial"/>
                <a:cs typeface="PT Bold Heading"/>
              </a:rPr>
              <a:t>ما الجوانب المطلوبة لتنفيذ حصة منوعة لتعليم القراءة والكتابة في الصف الأول الابتدائي ؟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أولا : المهارات اللغوية الأربع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قراءة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كتابة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تحدث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استماع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تدريس القراءة والكتابة</a:t>
            </a:r>
            <a:br>
              <a:rPr sz="6000"/>
            </a:br>
            <a:r>
              <a:rPr b="1" lang="ar-SA" sz="6000" spc="-1" strike="noStrike">
                <a:solidFill>
                  <a:srgbClr val="ffff00"/>
                </a:solidFill>
                <a:latin typeface="Times New Roman"/>
                <a:ea typeface="PT Bold Heading"/>
              </a:rPr>
              <a:t>(  لغتي  )</a:t>
            </a:r>
            <a:r>
              <a:rPr b="1" lang="ar-SA" sz="60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</a:t>
            </a:r>
            <a:br>
              <a:rPr sz="6000"/>
            </a:b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للصف الأول الابتدائي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ثانيا : طرق تعليم القراءة والكتابة 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طريقة التركيبية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طريقة التحليلية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طريقة المزدوجة </a:t>
            </a:r>
            <a:br>
              <a:rPr sz="6000"/>
            </a:b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PT Bold Heading"/>
              </a:rPr>
              <a:t>(وقد سار وفقها الكتاب المدرسي)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ثالثا : أبرز المشاكل التي تواجهنا عند تعليم طلاب الصف الأول الابتدائي 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99ff66"/>
                </a:solidFill>
                <a:uFillTx/>
                <a:latin typeface="Times New Roman"/>
                <a:cs typeface="PT Bold Heading"/>
              </a:rPr>
              <a:t>عدم انطلاق اللسان 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يعالج </a:t>
            </a:r>
            <a:r>
              <a:rPr b="1" lang="ar-SA" sz="6000" spc="-1" strike="noStrike">
                <a:solidFill>
                  <a:srgbClr val="ccffcc"/>
                </a:solidFill>
                <a:latin typeface="Times New Roman"/>
                <a:cs typeface="PT Bold Heading"/>
              </a:rPr>
              <a:t>بترديد</a:t>
            </a:r>
            <a:r>
              <a:rPr b="1" lang="ar-SA" sz="60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القراءة النموذجية خلف المدرس لكلمات  وحروف خاصة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</a:t>
            </a:r>
            <a:r>
              <a:rPr b="1" lang="hi-IN" sz="6000" spc="-1" strike="noStrike">
                <a:solidFill>
                  <a:srgbClr val="ccffcc"/>
                </a:solidFill>
                <a:latin typeface="Times New Roman"/>
                <a:cs typeface="PT Bold Heading"/>
              </a:rPr>
              <a:t>بالتكرار </a:t>
            </a: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، </a:t>
            </a:r>
            <a:br>
              <a:rPr sz="6000"/>
            </a:b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بالمراوحة بين القراءات الفردية </a:t>
            </a:r>
            <a:r>
              <a:rPr b="1" lang="hi-IN" sz="6000" spc="-1" strike="noStrike">
                <a:solidFill>
                  <a:srgbClr val="ccffcc"/>
                </a:solidFill>
                <a:latin typeface="Times New Roman"/>
                <a:cs typeface="PT Bold Heading"/>
              </a:rPr>
              <a:t>والترديد الجماعي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99ff66"/>
                </a:solidFill>
                <a:uFillTx/>
                <a:latin typeface="Times New Roman"/>
                <a:cs typeface="PT Bold Heading"/>
              </a:rPr>
              <a:t>النسيان السريع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ff"/>
                </a:solidFill>
                <a:latin typeface="Arial"/>
                <a:cs typeface="PT Bold Heading"/>
              </a:rPr>
              <a:t>ويعالج </a:t>
            </a:r>
            <a:r>
              <a:rPr b="1" lang="ar-SA" sz="5400" spc="-1" strike="noStrike">
                <a:solidFill>
                  <a:srgbClr val="ccffcc"/>
                </a:solidFill>
                <a:latin typeface="Arial"/>
                <a:cs typeface="PT Bold Heading"/>
              </a:rPr>
              <a:t>بالمراجعات المستمرة</a:t>
            </a:r>
            <a:r>
              <a:rPr b="1" lang="ar-SA" sz="5400" spc="-1" strike="noStrike">
                <a:solidFill>
                  <a:srgbClr val="ffccff"/>
                </a:solidFill>
                <a:latin typeface="Arial"/>
                <a:ea typeface="PT Bold Heading"/>
              </a:rPr>
              <a:t> لكل ما سبق في بدايات الحصص باستخدام </a:t>
            </a:r>
            <a:r>
              <a:rPr b="1" lang="ar-SA" sz="5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بطاقات </a:t>
            </a:r>
            <a:br>
              <a:rPr sz="5400"/>
            </a:br>
            <a:r>
              <a:rPr b="1" lang="ar-SA" sz="5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مع التكرار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إعداد</a:t>
            </a:r>
            <a:br>
              <a:rPr sz="4400"/>
            </a:br>
            <a:r>
              <a:rPr b="1" lang="ar-SA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مشرف التربوي</a:t>
            </a:r>
            <a:br>
              <a:rPr sz="4400"/>
            </a:b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خالد وهبة أبو عبية</a:t>
            </a:r>
            <a:br>
              <a:rPr sz="4400"/>
            </a:br>
            <a:r>
              <a:rPr b="1" lang="ar-SA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مدارس النبلاء الأهلية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059201365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99ff66"/>
                </a:solidFill>
                <a:uFillTx/>
                <a:latin typeface="Times New Roman"/>
                <a:cs typeface="PT Bold Heading"/>
              </a:rPr>
              <a:t>الملل السريع 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يعالج </a:t>
            </a:r>
            <a:r>
              <a:rPr b="1" lang="hi-IN" sz="6000" spc="-1" strike="noStrike">
                <a:solidFill>
                  <a:srgbClr val="ccffcc"/>
                </a:solidFill>
                <a:latin typeface="Times New Roman"/>
                <a:cs typeface="PT Bold Heading"/>
              </a:rPr>
              <a:t>بتنويع</a:t>
            </a:r>
            <a:r>
              <a:rPr b="1" lang="en-US" sz="60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الحصة ، واستخدام </a:t>
            </a:r>
            <a:r>
              <a:rPr b="1" lang="hi-IN" sz="6000" spc="-1" strike="noStrike">
                <a:solidFill>
                  <a:srgbClr val="ccffcc"/>
                </a:solidFill>
                <a:latin typeface="Times New Roman"/>
                <a:cs typeface="PT Bold Heading"/>
              </a:rPr>
              <a:t>وسائل</a:t>
            </a:r>
            <a:r>
              <a:rPr b="1" lang="en-US" sz="60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متنوعة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ff"/>
                </a:solidFill>
                <a:latin typeface="Arial"/>
                <a:cs typeface="PT Bold Heading"/>
              </a:rPr>
              <a:t>مثل : السبورة ، والألوان </a:t>
            </a:r>
            <a:br>
              <a:rPr sz="5400"/>
            </a:br>
            <a:r>
              <a:rPr b="1" lang="en-US" sz="5400" spc="-1" strike="noStrike">
                <a:solidFill>
                  <a:srgbClr val="ffccff"/>
                </a:solidFill>
                <a:latin typeface="Arial"/>
                <a:ea typeface="PT Bold Heading"/>
              </a:rPr>
              <a:t>   الهادفة ، والكتاب وصوره ، والبطاقات ، ولوحات الجيوب واللوحات ، والإشارة ،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ff"/>
                </a:solidFill>
                <a:latin typeface="Arial"/>
                <a:cs typeface="PT Bold Heading"/>
              </a:rPr>
              <a:t>والتمثيل الحسّي ، وتغيير نبرات الصوت ، والسبورات الصغيرة ،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التشجيع وإثارة التنافس ، والأناشيد المنغمة 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كما يعالج بإشاعة روح الفكاهة والمرح والحب بين المعلم والتلاميذ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Arial"/>
                <a:cs typeface="PT Bold Heading"/>
              </a:rPr>
              <a:t>وببعض </a:t>
            </a: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ألعاب التعليمية التي تخدم تعلم اللغة .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99ff66"/>
                </a:solidFill>
                <a:uFillTx/>
                <a:latin typeface="Arial"/>
                <a:cs typeface="PT Bold Heading"/>
              </a:rPr>
              <a:t>البطء في حركة القلم 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يعالج بالكتابة اليومية البسيطة غير المرهقة 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Arial"/>
                <a:cs typeface="PT Bold Heading"/>
              </a:rPr>
              <a:t>في الكتاب </a:t>
            </a:r>
            <a:br>
              <a:rPr sz="6000"/>
            </a:br>
            <a:r>
              <a:rPr b="1" lang="ar-SA" sz="6000" spc="-1" strike="noStrike">
                <a:solidFill>
                  <a:srgbClr val="ffccff"/>
                </a:solidFill>
                <a:latin typeface="Arial"/>
                <a:cs typeface="PT Bold Heading"/>
              </a:rPr>
              <a:t>وعلى سبورة </a:t>
            </a: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فصل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حمد لله رب العالمين والصلاة والسلام على خير المعلمين وعلى آله وصحبه أجمعين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في السبورات الصغيرة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في دفتر الفصل ، وفي المنزل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رابعا : الجوانب المطلوبة في حصة منوعة 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ccffcc"/>
                </a:solidFill>
                <a:uFillTx/>
                <a:latin typeface="Times New Roman"/>
                <a:cs typeface="PT Bold Heading"/>
              </a:rPr>
              <a:t>التهيئة 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تهيئة البيئة التعليمية : التهوية المناسبة </a:t>
            </a:r>
            <a:r>
              <a:rPr b="1" lang="ar-SA" sz="5400" spc="-1" strike="noStrike">
                <a:solidFill>
                  <a:srgbClr val="ffccff"/>
                </a:solidFill>
                <a:latin typeface="Times New Roman"/>
                <a:ea typeface="Traditional Arabic"/>
              </a:rPr>
              <a:t>–</a:t>
            </a:r>
            <a:r>
              <a:rPr b="1" lang="ar-SA" sz="5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الجو المناسب </a:t>
            </a:r>
            <a:r>
              <a:rPr b="1" lang="ar-SA" sz="5400" spc="-1" strike="noStrike">
                <a:solidFill>
                  <a:srgbClr val="ffccff"/>
                </a:solidFill>
                <a:latin typeface="Times New Roman"/>
                <a:ea typeface="Traditional Arabic"/>
              </a:rPr>
              <a:t>–</a:t>
            </a:r>
            <a:r>
              <a:rPr b="1" lang="ar-SA" sz="5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الإضاءة المناسبة </a:t>
            </a:r>
            <a:r>
              <a:rPr b="1" lang="ar-SA" sz="5400" spc="-1" strike="noStrike">
                <a:solidFill>
                  <a:srgbClr val="ffccff"/>
                </a:solidFill>
                <a:latin typeface="Times New Roman"/>
                <a:ea typeface="Traditional Arabic"/>
              </a:rPr>
              <a:t>–</a:t>
            </a:r>
            <a:r>
              <a:rPr b="1" lang="ar-SA" sz="5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انتظام الطلاب وانتباههم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مراجعة السريعة  : باستخدام بطاقات الدروس السابقة مع التكرار ، والتنبيه السريع لظاهرة تعليمية في كل بطاقة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تشويق والتمهيد للدرس الجديد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ccffcc"/>
                </a:solidFill>
                <a:uFillTx/>
                <a:latin typeface="Times New Roman"/>
                <a:cs typeface="PT Bold Heading"/>
              </a:rPr>
              <a:t>القراءة </a:t>
            </a:r>
            <a:r>
              <a:rPr b="1" lang="en-US" sz="6000" spc="-1" strike="noStrike">
                <a:solidFill>
                  <a:srgbClr val="ccffcc"/>
                </a:solidFill>
                <a:latin typeface="Times New Roman"/>
                <a:ea typeface="PT Bold Heading"/>
              </a:rPr>
              <a:t>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Arial"/>
                <a:cs typeface="PT Bold Heading"/>
              </a:rPr>
              <a:t>مع الاهتمام بالآتي 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نطق المتأني والواضح والسليم من المعلم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102600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قـم للمعـلم وفـه التبجيلا            كاد المعلم أن يكون رسولا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ضبط الطلاب للكلمات بالشكل أثناء قراءتهم لها ضبطا سليما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Arial"/>
                <a:cs typeface="PT Bold Heading"/>
              </a:rPr>
              <a:t>مراعاة المخارج الصحيحة للحروف 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صل كلمات الجملة الواحدة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تمثيل المعنى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صوت المناسب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سرعة المناسبة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اهتمام بالتكرار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مراوحة بين القراءات الفردية والترديد الجماعي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ccffcc"/>
                </a:solidFill>
                <a:uFillTx/>
                <a:latin typeface="Arial"/>
                <a:cs typeface="PT Bold Heading"/>
              </a:rPr>
              <a:t>الفهم والتحدث</a:t>
            </a:r>
            <a:r>
              <a:rPr b="1" lang="en-US" sz="6000" spc="-1" strike="noStrike">
                <a:solidFill>
                  <a:srgbClr val="ccffcc"/>
                </a:solidFill>
                <a:latin typeface="Arial"/>
                <a:ea typeface="PT Bold Heading"/>
              </a:rPr>
              <a:t>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اهتمام بمناقشة الطلاب حول أي كلمة أو جملة يدرسونها ؛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944388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أرأيت أعظم أو أجل من الذي           يبني وينشئ أنفسا وعقولا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ليتحقق فهمهم لها ، وبهذا يبدأ التلميذ التعود على فهم ما يقرؤه أو يسمعه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أيضا لينطلق لسانه بالتحدث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ccffcc"/>
                </a:solidFill>
                <a:uFillTx/>
                <a:latin typeface="Times New Roman"/>
                <a:cs typeface="PT Bold Heading"/>
              </a:rPr>
              <a:t>الكتابة </a:t>
            </a:r>
            <a:r>
              <a:rPr b="1" lang="en-US" sz="6000" spc="-1" strike="noStrike">
                <a:solidFill>
                  <a:srgbClr val="ccffcc"/>
                </a:solidFill>
                <a:latin typeface="Times New Roman"/>
                <a:ea typeface="PT Bold Heading"/>
              </a:rPr>
              <a:t>:</a:t>
            </a:r>
            <a:br>
              <a:rPr sz="6000"/>
            </a:b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نهتم فيها بالآتي 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تعويد الطالب على الإمساك الصحيح للقلم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تعويد الطالب على الطريقة السليمة لاتجاهات سير القلم لرسم الحروف والكلمات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رسم الصحيح لكل حرف في المواضع المختلفة من الكلمة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ccffcc"/>
                </a:solidFill>
                <a:uFillTx/>
                <a:latin typeface="Times New Roman"/>
                <a:cs typeface="PT Bold Heading"/>
              </a:rPr>
              <a:t>التحليل 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ffccff"/>
                </a:solidFill>
                <a:uFillTx/>
                <a:latin typeface="Times New Roman"/>
                <a:cs typeface="PT Bold Heading"/>
              </a:rPr>
              <a:t>تحليل الكلمات</a:t>
            </a:r>
            <a:r>
              <a:rPr b="1" lang="en-US" sz="60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(التهجي) شفويا وتحريريا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تجريد الأحرف التي درسها الطالب بحركاتها من كلمات درس القراءة ، أو سورة القرآن الكريم المقرر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r>
              <a:rPr b="1" lang="ar-SA" sz="5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ة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ffccff"/>
                </a:solidFill>
                <a:uFillTx/>
                <a:latin typeface="Times New Roman"/>
                <a:cs typeface="PT Bold Heading"/>
              </a:rPr>
              <a:t>تحليل الجمل</a:t>
            </a:r>
            <a:r>
              <a:rPr b="1" lang="en-US" sz="60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:</a:t>
            </a:r>
            <a:br>
              <a:rPr sz="6000"/>
            </a:br>
            <a:r>
              <a:rPr b="1" lang="en-US" sz="60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بالتعرف على كلمات الجملة دون ترتيب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تدريس القراءة والكتابة للصف الأول الابتدائي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ccffcc"/>
                </a:solidFill>
                <a:uFillTx/>
                <a:latin typeface="Arial"/>
                <a:cs typeface="PT Bold Heading"/>
              </a:rPr>
              <a:t>التركيب 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ffccff"/>
                </a:solidFill>
                <a:uFillTx/>
                <a:latin typeface="Times New Roman"/>
                <a:cs typeface="PT Bold Heading"/>
              </a:rPr>
              <a:t>تركيب كلمات</a:t>
            </a:r>
            <a:r>
              <a:rPr b="1" lang="ar-SA" sz="60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:   </a:t>
            </a:r>
            <a:br>
              <a:rPr sz="6000"/>
            </a:b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تركيب </a:t>
            </a:r>
            <a:r>
              <a:rPr b="1" lang="ar-SA" sz="6000" spc="-1" strike="noStrike" u="sng">
                <a:solidFill>
                  <a:srgbClr val="ffccff"/>
                </a:solidFill>
                <a:uFillTx/>
                <a:latin typeface="Times New Roman"/>
                <a:cs typeface="PT Bold Heading"/>
              </a:rPr>
              <a:t>كلي</a:t>
            </a:r>
            <a:r>
              <a:rPr b="1" lang="ar-SA" sz="60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بتركيب كلمات من أحرف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تركيب كلمات</a:t>
            </a:r>
            <a:r>
              <a:rPr b="1" lang="en-US" sz="6000" spc="-1" strike="noStrike" u="sng">
                <a:solidFill>
                  <a:srgbClr val="ffccff"/>
                </a:solidFill>
                <a:uFillTx/>
                <a:latin typeface="Times New Roman"/>
                <a:ea typeface="PT Bold Heading"/>
              </a:rPr>
              <a:t> جزئي</a:t>
            </a:r>
            <a:r>
              <a:rPr b="1" lang="en-US" sz="60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بإكمال الحرف أو الأحرف الناقصة في الكلمة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 u="sng">
                <a:solidFill>
                  <a:srgbClr val="ffccff"/>
                </a:solidFill>
                <a:uFillTx/>
                <a:latin typeface="Times New Roman"/>
                <a:cs typeface="PT Bold Heading"/>
              </a:rPr>
              <a:t>تركيب جمل</a:t>
            </a:r>
            <a:r>
              <a:rPr b="1" lang="en-US" sz="5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: من كلمات متناثرة وتستخدم في ذلك البطاقات مع لوحة الجيوب أو السبورة الممغنطة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ccffcc"/>
                </a:solidFill>
                <a:uFillTx/>
                <a:latin typeface="Times New Roman"/>
                <a:cs typeface="PT Bold Heading"/>
              </a:rPr>
              <a:t>الاستنباط</a:t>
            </a:r>
            <a:r>
              <a:rPr b="1" lang="en-US" sz="6000" spc="-1" strike="noStrike">
                <a:solidFill>
                  <a:srgbClr val="ccffcc"/>
                </a:solidFill>
                <a:latin typeface="Times New Roman"/>
                <a:ea typeface="PT Bold Heading"/>
              </a:rPr>
              <a:t> :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ff"/>
                </a:solidFill>
                <a:latin typeface="Arial"/>
                <a:cs typeface="PT Bold Heading"/>
              </a:rPr>
              <a:t>وهو طلب استخراج وتعرف أثناء المراجعة ، وأثناء القراءة ، وأثناء الكتابة </a:t>
            </a:r>
            <a:br>
              <a:rPr sz="4400"/>
            </a:br>
            <a:r>
              <a:rPr b="1" lang="ar-SA" sz="4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    لحروف بحركات محددة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ff"/>
                </a:solidFill>
                <a:latin typeface="Arial"/>
                <a:cs typeface="PT Bold Heading"/>
              </a:rPr>
              <a:t>أو لظواهر مثل :</a:t>
            </a:r>
            <a:br>
              <a:rPr sz="4400"/>
            </a:br>
            <a:r>
              <a:rPr b="1" lang="ar-SA" sz="4400" spc="-1" strike="noStrike">
                <a:solidFill>
                  <a:srgbClr val="ffccff"/>
                </a:solidFill>
                <a:latin typeface="Arial"/>
                <a:cs typeface="PT Bold Heading"/>
              </a:rPr>
              <a:t>المدود ، والتنوين والشدات ، </a:t>
            </a:r>
            <a:br>
              <a:rPr sz="4400"/>
            </a:br>
            <a:r>
              <a:rPr b="1" lang="ar-SA" sz="4400" spc="-1" strike="noStrike">
                <a:solidFill>
                  <a:srgbClr val="ffccff"/>
                </a:solidFill>
                <a:latin typeface="Arial"/>
                <a:cs typeface="PT Bold Heading"/>
              </a:rPr>
              <a:t>والتاء </a:t>
            </a:r>
            <a:r>
              <a:rPr b="1" lang="ar-SA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المربوطة، والهاء في آخر الكلمة ، واللام الشمسية واللام القمرية ...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ccffcc"/>
                </a:solidFill>
                <a:uFillTx/>
                <a:latin typeface="Arial"/>
                <a:cs typeface="PT Bold Heading"/>
              </a:rPr>
              <a:t>التعليل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Arial"/>
                <a:cs typeface="PT Bold Heading"/>
              </a:rPr>
              <a:t>تعليل النطق :       لماذا نطقنا ...........هكذا 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تعليل الكتابة :     لماذا كتبنا ...........هكذا ؟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ff"/>
                </a:solidFill>
                <a:latin typeface="Arial"/>
                <a:cs typeface="PT Bold Heading"/>
              </a:rPr>
              <a:t>تساؤلات !!!</a:t>
            </a:r>
            <a:br>
              <a:rPr sz="6000"/>
            </a:br>
            <a:r>
              <a:rPr b="1" lang="hi-IN" sz="6000" spc="-1" strike="noStrike">
                <a:solidFill>
                  <a:srgbClr val="ffff00"/>
                </a:solidFill>
                <a:latin typeface="Arial"/>
                <a:cs typeface="PT Bold Heading"/>
              </a:rPr>
              <a:t>تساؤلات !!!</a:t>
            </a:r>
            <a:br>
              <a:rPr sz="6000"/>
            </a:br>
            <a:r>
              <a:rPr b="1" lang="hi-IN" sz="6000" spc="-1" strike="noStrike">
                <a:solidFill>
                  <a:srgbClr val="ccecff"/>
                </a:solidFill>
                <a:latin typeface="Arial"/>
                <a:cs typeface="PT Bold Heading"/>
              </a:rPr>
              <a:t>تساؤلات 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ccffcc"/>
                </a:solidFill>
                <a:uFillTx/>
                <a:latin typeface="Arial"/>
                <a:cs typeface="PT Bold Heading"/>
              </a:rPr>
              <a:t>المقارنة والمباينة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بين الأحرف المتشابهة نطقا ، مثل :       ( ث ، س ) </a:t>
            </a:r>
            <a:br>
              <a:rPr sz="4400"/>
            </a:br>
            <a:r>
              <a:rPr b="1" lang="ar-SA" sz="4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( ز ، ذ ، ظ )  </a:t>
            </a:r>
            <a:br>
              <a:rPr sz="4400"/>
            </a:br>
            <a:r>
              <a:rPr b="1" lang="ar-SA" sz="4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 ( ض ، ظ )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بين الأحرف المتشابهة كتابة ، مثل :</a:t>
            </a:r>
            <a:br>
              <a:rPr sz="4400"/>
            </a:br>
            <a:r>
              <a:rPr b="1" lang="en-US" sz="4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( ب ، ت ، ث ، ن ، ي )  </a:t>
            </a:r>
            <a:br>
              <a:rPr sz="4400"/>
            </a:br>
            <a:r>
              <a:rPr b="1" lang="en-US" sz="4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(س ، ش )  </a:t>
            </a:r>
            <a:br>
              <a:rPr sz="4400"/>
            </a:br>
            <a:r>
              <a:rPr b="1" lang="en-US" sz="4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  (ص ، ض )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بين الحركات والسكون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بين أنواع المدّ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بين أنواع التنوين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بين الشدات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بين اللام الشمسية واللام القمرية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بين التاء المفتوحة والتاء المربوطة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بين التاء المربوطة والهاء في آخر الكلمة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ما المهارات التي </a:t>
            </a:r>
            <a:r>
              <a:rPr b="1" lang="ar-SA" sz="60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سأدرب</a:t>
            </a:r>
            <a:r>
              <a:rPr b="1" lang="ar-SA" sz="60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</a:t>
            </a:r>
            <a:r>
              <a:rPr b="1" lang="ar-SA" sz="60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تلميذي</a:t>
            </a:r>
            <a:r>
              <a:rPr b="1" lang="ar-SA" sz="60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عليها ليكتسب اللغة؟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ffcc"/>
                </a:solidFill>
                <a:uFillTx/>
                <a:latin typeface="Times New Roman"/>
                <a:cs typeface="PT Bold Heading"/>
              </a:rPr>
              <a:t>الاهتمام بغرس القيم الفاضلة 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Arial"/>
                <a:cs typeface="PT Bold Heading"/>
              </a:rPr>
              <a:t>ولا بد لك في كل حصة من لمسات رقيقة في وقت قصير تغرس من خلالها في </a:t>
            </a:r>
            <a:br>
              <a:rPr sz="4400"/>
            </a:br>
            <a:r>
              <a:rPr b="1" lang="en-US" sz="4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 نفوس طلابك قيمة عظيمة </a:t>
            </a:r>
            <a:br>
              <a:rPr sz="4400"/>
            </a:b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خلقا نبيلا فاضلا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Arial"/>
                <a:cs typeface="PT Bold Heading"/>
              </a:rPr>
              <a:t>حتى تكون قد ساهمت في بناء</a:t>
            </a:r>
            <a:br>
              <a:rPr sz="4400"/>
            </a:b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مواطن صالح </a:t>
            </a:r>
            <a:br>
              <a:rPr sz="4400"/>
            </a:b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لمجتمع صالح 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لا تنس قبل كل حصة أن تدعو الله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أن يجعل جهدك فيها خالصا لوجهه الكريم ، سعيا على المعاش وتعليما وتربية لأبناء المسلمين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وأن ينفعك بهذا الجهد في الدنيا وفي القبر وفي الآخرة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أسأل الـله أن يتقبل منا أجمعين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ff"/>
                </a:solidFill>
                <a:latin typeface="Arial"/>
                <a:ea typeface="PT Bold Heading"/>
              </a:rPr>
              <a:t>            المشرف التربوي</a:t>
            </a:r>
            <a:r>
              <a:rPr b="1" lang="ar-SA" sz="4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	</a:t>
            </a:r>
            <a:br>
              <a:rPr sz="4400"/>
            </a:br>
            <a:r>
              <a:rPr b="1" lang="ar-SA" sz="4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       خالد وهبة أبو عبية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</a:t>
            </a:r>
            <a:br>
              <a:rPr sz="4400"/>
            </a:br>
            <a:r>
              <a:rPr b="0" lang="ar-SA" sz="4400" spc="-1" strike="noStrike">
                <a:solidFill>
                  <a:srgbClr val="ccecff"/>
                </a:solidFill>
                <a:latin typeface="Arial"/>
                <a:ea typeface="PT Bold Heading"/>
              </a:rPr>
              <a:t>       </a:t>
            </a:r>
            <a:r>
              <a:rPr b="1" lang="ar-SA" sz="4400" spc="-1" strike="noStrike">
                <a:solidFill>
                  <a:srgbClr val="ffccff"/>
                </a:solidFill>
                <a:latin typeface="Times New Roman"/>
                <a:cs typeface="PT Bold Heading"/>
              </a:rPr>
              <a:t>مدارس النبلاء الأهلية</a:t>
            </a:r>
            <a:br>
              <a:rPr sz="4400"/>
            </a:br>
            <a:r>
              <a:rPr b="1" lang="ar-SA" sz="4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     </a:t>
            </a:r>
            <a:r>
              <a:rPr b="1" lang="ar-SA" sz="4400" spc="-1" strike="noStrike">
                <a:solidFill>
                  <a:srgbClr val="ffccff"/>
                </a:solidFill>
                <a:latin typeface="Times New Roman"/>
                <a:ea typeface="PT Bold Heading"/>
              </a:rPr>
              <a:t>059201365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3:59:40Z</dcterms:created>
  <dc:creator>User</dc:creator>
  <dc:description/>
  <dc:language>en-US</dc:language>
  <cp:lastModifiedBy>خالد وهبة</cp:lastModifiedBy>
  <dcterms:modified xsi:type="dcterms:W3CDTF">2002-01-16T15:41:04Z</dcterms:modified>
  <cp:revision>5</cp:revision>
  <dc:subject/>
  <dc:title>بسم الـله الرحمن الرحيم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LeafRef">
    <vt:lpwstr>1193دورة عن تعليم اللغة العربية بالصف الأول الابتدائي للمشرف خالد وهبة.ppt</vt:lpwstr>
  </property>
  <property fmtid="{D5CDD505-2E9C-101B-9397-08002B2CF9AE}" pid="3" name="Title">
    <vt:lpwstr>1193دورة عن تعليم اللغة العربية بالصف الأول الابتدائي للمشرف خالد وهبة.ppt</vt:lpwstr>
  </property>
</Properties>
</file>